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93C87-FB96-4BDF-8AC1-0D79732942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86D27-C499-4F7E-9450-80CCB68390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2872-3B36-4535-B431-B708BC169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BDC2-8F68-4100-9DBB-A1E69BA02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ECDD-6FA3-4C51-94CF-1013756B1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5D7B6-DF66-433D-B62E-3C793F9D6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E92E6-DD14-4A54-9821-DAA85A591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652DE-1333-4D07-AAC8-4D63948B9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64D2C-A506-46B0-BB6B-E03496EBB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D3228-5775-4F6C-8A3E-2E20280F9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39212-5D29-4132-A98B-76007AA4D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555E5-C869-4ED4-8B76-DC1BFE675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48740-848E-4FA1-873D-54DBB9E9E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A8F4-CF62-4C57-AA02-BF65B1735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EF35F-E5AB-464D-A0C7-AA946B4B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63C51-3D75-47D3-A02C-C75D315C7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ED7B3-6BDD-4871-B978-090CE09BC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C7A96-7F69-4B85-8333-9E4C89BE4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BA19C-5412-42A8-A9F8-0815DECC9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8460A-A95E-4F53-81BB-FC4A65DBA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803AB-7EB6-4E58-B91E-0B8F3B524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FC3E78-1467-404A-8C4B-63B81F713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AA54B4-829E-47BE-9D31-092DDBC96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5901EB-8F53-4551-96D7-7BC1AD71F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6E5D-14DB-4155-9B3E-A315E7183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016F7-8E31-434D-8A50-7F5FD88C5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CE267F-F5E9-4C27-9023-CB32B339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EEC8E-5C64-43F6-8DF7-504851E9A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5E758D-A587-4998-81D5-14195FAC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24C03-D960-4EC4-94B5-3471A5699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658BF-9C96-4B40-BA62-66CE2C527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59877B-A184-4433-B793-DF4337DD2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70F7FE-5B7F-47E4-8865-49CD812EF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D37AA-2416-4CFA-8308-8468056B3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B6BDCC-F5BF-4C95-83F0-BDD4168FF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CFB9-6E8D-4A89-A9B8-23F0A03F2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5AC7A6-DF39-4C12-A0B7-E85C3CDFA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EC8A43-F603-4A61-AF0F-212BAFB0C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AD9AC-6F2A-450D-830A-6D46DEB08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7FD714-3145-478D-8D51-91785553A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6D295D-AE66-436C-90EC-3E553C407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39349E-D901-4971-9B1C-7A26433D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7960D-E69B-4A81-AE5F-95E774026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42CB6-2761-4BB1-A453-69781ABE3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7DB024-66C0-4FBC-B461-AF4EFEF12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A6E49-959A-43C5-A67B-F97FE35BF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B124-0AAF-44FC-9444-9280ED4A1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036BDA-3F8D-46B4-9654-30246D6AC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2BF441-CC96-40DA-A4CC-C85148FAB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4B6BED-61FD-4682-BF7F-1ABD465ED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319D3-91E6-4030-A4BA-BC13FBF57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43E52-A302-4B3D-962F-0FC4B4D2D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DD8B5-D1AD-451D-AF74-375BE046B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BBACC7-243B-43FF-BE9C-0AE75CE1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01ACB-ECD0-4ADB-83BB-2FC843E0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F340A5-488C-445E-A18D-97945F374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44AC1-9B37-4218-9F93-DA8CCFDBC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22240" y="365040"/>
            <a:ext cx="7521840" cy="25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EA5D-441B-4B9D-BF0E-78035FCB8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3652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908680" y="11001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82224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3652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908680" y="2970360"/>
            <a:ext cx="242172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F5DE1C-C6D1-49FB-BC71-876E46F92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D2E5-21C5-4077-945F-3320A4FD3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760" y="29703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6327-3E52-4086-BA03-8D87EEE2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224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760" y="1100160"/>
            <a:ext cx="367056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22240" y="2970360"/>
            <a:ext cx="7521840" cy="170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27EE-E7EB-4473-97B3-77CAD476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3240" y="5051520"/>
            <a:ext cx="3575160" cy="1806480"/>
          </a:xfrm>
          <a:custGeom>
            <a:avLst/>
            <a:gdLst/>
            <a:ahLst/>
            <a:rect l="l" t="t" r="r" b="b"/>
            <a:pathLst>
              <a:path w="3574257" h="1807368">
                <a:moveTo>
                  <a:pt x="2382" y="1807368"/>
                </a:moveTo>
                <a:lnTo>
                  <a:pt x="0" y="0"/>
                </a:lnTo>
                <a:lnTo>
                  <a:pt x="2045494" y="1"/>
                </a:lnTo>
                <a:lnTo>
                  <a:pt x="3574257" y="1807368"/>
                </a:lnTo>
                <a:lnTo>
                  <a:pt x="2382" y="1807368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-1440" y="5051520"/>
            <a:ext cx="9145440" cy="1806480"/>
          </a:xfrm>
          <a:custGeom>
            <a:avLst/>
            <a:gdLst/>
            <a:ahLst/>
            <a:rect l="l" t="t" r="r" b="b"/>
            <a:pathLst>
              <a:path w="3352800" h="527584">
                <a:moveTo>
                  <a:pt x="0" y="527584"/>
                </a:moveTo>
                <a:lnTo>
                  <a:pt x="748227" y="0"/>
                </a:lnTo>
                <a:lnTo>
                  <a:pt x="3352800" y="271"/>
                </a:lnTo>
                <a:lnTo>
                  <a:pt x="3352800" y="527584"/>
                </a:lnTo>
                <a:lnTo>
                  <a:pt x="0" y="527584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58BC0-68CD-4E5B-BF89-192B198ED985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" name="Freeform 9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A0DBF-91CF-40B7-B048-F7258809DE49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-1440" y="-1440"/>
            <a:ext cx="9145440" cy="6859440"/>
          </a:xfrm>
          <a:custGeom>
            <a:avLst/>
            <a:gdLst/>
            <a:ahLst/>
            <a:rect l="l" t="t" r="r" b="b"/>
            <a:pathLst>
              <a:path w="3352800" h="2002901">
                <a:moveTo>
                  <a:pt x="0" y="2002901"/>
                </a:moveTo>
                <a:lnTo>
                  <a:pt x="2836585" y="0"/>
                </a:lnTo>
                <a:lnTo>
                  <a:pt x="3352800" y="270"/>
                </a:lnTo>
                <a:lnTo>
                  <a:pt x="3352800" y="2002901"/>
                </a:lnTo>
                <a:lnTo>
                  <a:pt x="0" y="2002901"/>
                </a:lnTo>
                <a:close/>
              </a:path>
            </a:pathLst>
          </a:cu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7" name="Right Triangle 9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D3A2A-8497-4260-B877-9B554DE5DCCB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0" name="Right Triangle 9"/>
          <p:cNvSpPr/>
          <p:nvPr/>
        </p:nvSpPr>
        <p:spPr>
          <a:xfrm rot="5400000">
            <a:off x="433440" y="-433440"/>
            <a:ext cx="6858000" cy="7724880"/>
          </a:xfrm>
          <a:prstGeom prst="rtTriangle">
            <a:avLst/>
          </a:pr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434342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43434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B416D-34F0-42D1-8E0B-8A3CDC0C295B}" type="slidenum">
              <a:rPr b="0" lang="en-US" sz="1600" spc="-1" strike="noStrike">
                <a:solidFill>
                  <a:srgbClr val="43434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ight Triangle 8"/>
          <p:cNvSpPr/>
          <p:nvPr/>
        </p:nvSpPr>
        <p:spPr>
          <a:xfrm>
            <a:off x="0" y="2647800"/>
            <a:ext cx="3571920" cy="4210200"/>
          </a:xfrm>
          <a:prstGeom prst="rtTriangle">
            <a:avLst/>
          </a:prstGeom>
          <a:solidFill>
            <a:srgbClr val="f96a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3" name="Freeform 9"/>
          <p:cNvSpPr/>
          <p:nvPr/>
        </p:nvSpPr>
        <p:spPr>
          <a:xfrm>
            <a:off x="0" y="5048280"/>
            <a:ext cx="3571920" cy="1809720"/>
          </a:xfrm>
          <a:custGeom>
            <a:avLst/>
            <a:gdLst/>
            <a:ahLst/>
            <a:rect l="l" t="t" r="r" b="b"/>
            <a:pathLst>
              <a:path w="3571875" h="1809750">
                <a:moveTo>
                  <a:pt x="0" y="1809750"/>
                </a:moveTo>
                <a:lnTo>
                  <a:pt x="2038350" y="0"/>
                </a:lnTo>
                <a:lnTo>
                  <a:pt x="3571875" y="1809750"/>
                </a:lnTo>
                <a:lnTo>
                  <a:pt x="0" y="1809750"/>
                </a:lnTo>
                <a:close/>
              </a:path>
            </a:pathLst>
          </a:custGeom>
          <a:solidFill>
            <a:srgbClr val="08a1d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343080" indent="-343080">
              <a:spcBef>
                <a:spcPts val="799"/>
              </a:spcBef>
              <a:buClr>
                <a:srgbClr val="f96a1b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 rot="19140000">
            <a:off x="201600" y="5870520"/>
            <a:ext cx="217656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517560" y="6284520"/>
            <a:ext cx="47242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474400" y="6243840"/>
            <a:ext cx="356400" cy="35604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9000" rIns="9000" tIns="9000" bIns="90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3FDBF-A045-44B1-8659-4B2EA4819662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 rot="19140000">
            <a:off x="817200" y="1729800"/>
            <a:ext cx="5648400" cy="1204920"/>
          </a:xfrm>
          <a:prstGeom prst="rect">
            <a:avLst/>
          </a:prstGeom>
          <a:noFill/>
          <a:ln w="0">
            <a:noFill/>
          </a:ln>
        </p:spPr>
        <p:txBody>
          <a:bodyPr bIns="90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DEMONSTRATIVE ADJECTIVES</a:t>
            </a:r>
            <a:endParaRPr b="0" lang="en-US" sz="3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 rot="19140000">
            <a:off x="1212480" y="2469960"/>
            <a:ext cx="6510240" cy="330120"/>
          </a:xfrm>
          <a:prstGeom prst="rect">
            <a:avLst/>
          </a:prstGeom>
          <a:noFill/>
          <a:ln w="0">
            <a:noFill/>
          </a:ln>
        </p:spPr>
        <p:txBody>
          <a:bodyPr tIns="90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6.2</a:t>
            </a:r>
            <a:r>
              <a:rPr b="0" lang="en-US" sz="1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2</a:t>
            </a:r>
            <a:r>
              <a:rPr b="0" lang="en-US" sz="1400" spc="-1" strike="noStrike" baseline="30000">
                <a:solidFill>
                  <a:srgbClr val="000000"/>
                </a:solidFill>
                <a:latin typeface="Franklin Gothic Book"/>
                <a:ea typeface="Tunga"/>
              </a:rPr>
              <a:t>ND</a:t>
            </a:r>
            <a:r>
              <a:rPr b="0" lang="en-US" sz="1400" spc="-1" strike="noStrike">
                <a:solidFill>
                  <a:srgbClr val="000000"/>
                </a:solidFill>
                <a:latin typeface="Franklin Gothic Book"/>
                <a:ea typeface="Tunga"/>
              </a:rPr>
              <a:t> YEAR</a:t>
            </a: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WHAT IS THE PURPOSE OF DEMONSTRATIVE ADJECTIVES?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Demonstrative adjectives describes the location of a NOUN in relation to a person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Demonstrative adjectives in English are “This” “That” and “That over there”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For example: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This book, that chair, that table over there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When we say “This,” we are implying that the object is relatively close to the person speaking.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When we say “that,” we are implying that the object is a bit further away from the person speaking.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When we say “that over there” we are implying that the object may be some distance, across the room, perhaps from the person speaking.</a:t>
            </a:r>
            <a:endParaRPr b="1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WHAT ARE THEY IN SPANISH?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Masculine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457200" y="1600200"/>
          <a:ext cx="6705720" cy="2438280"/>
        </p:xfrm>
        <a:graphic>
          <a:graphicData uri="http://schemas.openxmlformats.org/drawingml/2006/table">
            <a:tbl>
              <a:tblPr/>
              <a:tblGrid>
                <a:gridCol w="3352680"/>
                <a:gridCol w="3353040"/>
              </a:tblGrid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Sing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7b7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Pl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7b7e"/>
                    </a:solidFill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Este (thi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Estos (thes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Ese (tha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Esos (thos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quel (that over the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quellos (those over the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</a:tr>
            </a:tbl>
          </a:graphicData>
        </a:graphic>
      </p:graphicFrame>
      <p:sp>
        <p:nvSpPr>
          <p:cNvPr id="229" name="TextBox 4"/>
          <p:cNvSpPr/>
          <p:nvPr/>
        </p:nvSpPr>
        <p:spPr>
          <a:xfrm>
            <a:off x="4952880" y="48769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</a:rPr>
              <a:t>Notice there are NO accent marks!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0" name="Up Arrow 9"/>
          <p:cNvSpPr/>
          <p:nvPr/>
        </p:nvSpPr>
        <p:spPr>
          <a:xfrm rot="19932600">
            <a:off x="3825720" y="4017960"/>
            <a:ext cx="914400" cy="1235160"/>
          </a:xfrm>
          <a:prstGeom prst="upArrow">
            <a:avLst>
              <a:gd name="adj1" fmla="val 50000"/>
              <a:gd name="adj2" fmla="val 50023"/>
            </a:avLst>
          </a:pr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Oval 7"/>
          <p:cNvSpPr/>
          <p:nvPr/>
        </p:nvSpPr>
        <p:spPr>
          <a:xfrm>
            <a:off x="304920" y="3114720"/>
            <a:ext cx="4647960" cy="3048120"/>
          </a:xfrm>
          <a:prstGeom prst="ellipse">
            <a:avLst/>
          </a:prstGeom>
          <a:gradFill rotWithShape="0">
            <a:gsLst>
              <a:gs pos="0">
                <a:srgbClr val="ff9d7d"/>
              </a:gs>
              <a:gs pos="100000">
                <a:srgbClr val="ffe1d9"/>
              </a:gs>
            </a:gsLst>
            <a:lin ang="16200000"/>
          </a:gradFill>
          <a:ln w="9360">
            <a:solidFill>
              <a:srgbClr val="f9661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WHAT ARE THEY IN SPANISH</a:t>
            </a: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Book"/>
              </a:rPr>
              <a:t>Feminine</a:t>
            </a: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762120" y="1600200"/>
          <a:ext cx="6095880" cy="148284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Sing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7b7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Pl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7b7e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Esta (thi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Estas (thes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Esa (tha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Esas (thos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quella (that over the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Franklin Gothic Book"/>
                        </a:rPr>
                        <a:t>Aquellas (Those over there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</a:tr>
            </a:tbl>
          </a:graphicData>
        </a:graphic>
      </p:graphicFrame>
      <p:sp>
        <p:nvSpPr>
          <p:cNvPr id="235" name="TextBox 4"/>
          <p:cNvSpPr/>
          <p:nvPr/>
        </p:nvSpPr>
        <p:spPr>
          <a:xfrm>
            <a:off x="6172200" y="3581280"/>
            <a:ext cx="1752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Notice there are NO accent marks!</a:t>
            </a:r>
            <a:endParaRPr b="0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Left Arrow 5"/>
          <p:cNvSpPr/>
          <p:nvPr/>
        </p:nvSpPr>
        <p:spPr>
          <a:xfrm rot="2797800">
            <a:off x="4800240" y="3581280"/>
            <a:ext cx="1371600" cy="660240"/>
          </a:xfrm>
          <a:prstGeom prst="leftArrow">
            <a:avLst>
              <a:gd name="adj1" fmla="val 50000"/>
              <a:gd name="adj2" fmla="val 50108"/>
            </a:avLst>
          </a:pr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7" name="TextBox 6"/>
          <p:cNvSpPr/>
          <p:nvPr/>
        </p:nvSpPr>
        <p:spPr>
          <a:xfrm>
            <a:off x="609480" y="3581280"/>
            <a:ext cx="4038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haroni"/>
                <a:ea typeface="Aharoni"/>
              </a:rPr>
              <a:t>This and These have “T’s”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haroni"/>
                <a:ea typeface="Aharoni"/>
              </a:rPr>
              <a:t>That and Those don’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haroni"/>
                <a:ea typeface="Aharoni"/>
              </a:rPr>
              <a:t>The ones with “A” are far away!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WHAT ABOUT DEMONSTRATIVE PRONOUNS?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Demonstrative pronouns are used in place of the adjective and the noun.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For example, saying “can you give me this one?” is a use of a demonstrative pronoun.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ranklin Gothic Book"/>
              </a:rPr>
              <a:t>When demonstrative pronouns are used this way, they have an accent mark over the “e”. </a:t>
            </a:r>
            <a:endParaRPr b="1" lang="en-US" sz="1600" spc="-1" strike="noStrike">
              <a:solidFill>
                <a:srgbClr val="000000"/>
              </a:solidFill>
              <a:latin typeface="Franklin Gothic Book"/>
            </a:endParaRPr>
          </a:p>
        </p:txBody>
      </p:sp>
      <p:graphicFrame>
        <p:nvGraphicFramePr>
          <p:cNvPr id="240" name=""/>
          <p:cNvGraphicFramePr/>
          <p:nvPr/>
        </p:nvGraphicFramePr>
        <p:xfrm>
          <a:off x="1219320" y="2819520"/>
          <a:ext cx="6858000" cy="251460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Sing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7b7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Franklin Gothic Book"/>
                        </a:rPr>
                        <a:t>Pl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97b7e"/>
                    </a:solidFill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Éste, é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Éstos, ést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</a:tr>
              <a:tr h="71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Ése, é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Ésos, és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quél, aquél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Aquéllos, aquéll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Franklin Gothic Book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7d7d8"/>
                    </a:solidFill>
                  </a:tcPr>
                </a:tc>
              </a:tr>
            </a:tbl>
          </a:graphicData>
        </a:graphic>
      </p:graphicFrame>
      <p:sp>
        <p:nvSpPr>
          <p:cNvPr id="241" name="TextBox 8"/>
          <p:cNvSpPr/>
          <p:nvPr/>
        </p:nvSpPr>
        <p:spPr>
          <a:xfrm>
            <a:off x="6400800" y="56386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Black"/>
              </a:rPr>
              <a:t>Notice these have accent marks!!</a:t>
            </a: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2" name="Left Arrow 9"/>
          <p:cNvSpPr/>
          <p:nvPr/>
        </p:nvSpPr>
        <p:spPr>
          <a:xfrm rot="2140200">
            <a:off x="5001840" y="5655960"/>
            <a:ext cx="1447920" cy="533520"/>
          </a:xfrm>
          <a:prstGeom prst="leftArrow">
            <a:avLst>
              <a:gd name="adj1" fmla="val 50000"/>
              <a:gd name="adj2" fmla="val 49994"/>
            </a:avLst>
          </a:prstGeom>
          <a:solidFill>
            <a:srgbClr val="797b7e"/>
          </a:solidFill>
          <a:ln w="25560">
            <a:solidFill>
              <a:srgbClr val="5759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822240" y="365040"/>
            <a:ext cx="752184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Franklin Gothic Medium"/>
              </a:rPr>
              <a:t>MORE DEMONSTRATIVE PRONOUNS</a:t>
            </a:r>
            <a:endParaRPr b="0" lang="en-US" sz="28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822240" y="1100160"/>
            <a:ext cx="752184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Medium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Medium"/>
              </a:rPr>
              <a:t>There are also demonstrative pronouns that refer to ideas or unidentified things. 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Medium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Medium"/>
              </a:rPr>
              <a:t>There is no specific gender.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Medium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Medium"/>
              </a:rPr>
              <a:t>For example, “this is important.” – </a:t>
            </a:r>
            <a:r>
              <a:rPr b="1" lang="en-US" sz="2000" spc="-1" strike="noStrike">
                <a:solidFill>
                  <a:srgbClr val="ff0000"/>
                </a:solidFill>
                <a:latin typeface="Franklin Gothic Medium"/>
              </a:rPr>
              <a:t>Esto </a:t>
            </a:r>
            <a:r>
              <a:rPr b="1" lang="en-US" sz="2000" spc="-1" strike="noStrike">
                <a:solidFill>
                  <a:srgbClr val="000000"/>
                </a:solidFill>
                <a:latin typeface="Franklin Gothic Medium"/>
              </a:rPr>
              <a:t>es importante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Medium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Medium"/>
              </a:rPr>
              <a:t>Or “What is that?”--- ¿Que es </a:t>
            </a:r>
            <a:r>
              <a:rPr b="1" lang="en-US" sz="2000" spc="-1" strike="noStrike">
                <a:solidFill>
                  <a:srgbClr val="ff0000"/>
                </a:solidFill>
                <a:latin typeface="Franklin Gothic Medium"/>
              </a:rPr>
              <a:t>eso</a:t>
            </a:r>
            <a:r>
              <a:rPr b="1" lang="en-US" sz="2000" spc="-1" strike="noStrike">
                <a:solidFill>
                  <a:srgbClr val="000000"/>
                </a:solidFill>
                <a:latin typeface="Franklin Gothic Medium"/>
              </a:rPr>
              <a:t>?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Medium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Medium"/>
              </a:rPr>
              <a:t>Or “What is that over there?”-- ¿Qué es </a:t>
            </a:r>
            <a:r>
              <a:rPr b="1" lang="en-US" sz="2000" spc="-1" strike="noStrike">
                <a:solidFill>
                  <a:srgbClr val="ff0000"/>
                </a:solidFill>
                <a:latin typeface="Franklin Gothic Medium"/>
              </a:rPr>
              <a:t>aquello</a:t>
            </a:r>
            <a:r>
              <a:rPr b="1" lang="en-US" sz="2000" spc="-1" strike="noStrike">
                <a:solidFill>
                  <a:srgbClr val="000000"/>
                </a:solidFill>
                <a:latin typeface="Franklin Gothic Medium"/>
              </a:rPr>
              <a:t>?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Medium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Medium"/>
              </a:rPr>
              <a:t>When demonstrative pronouns are used this way, there is no accent mark.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Franklin Gothic Medium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anklin Gothic Medium"/>
              </a:rPr>
              <a:t>Notice that the form is a little bit different.</a:t>
            </a:r>
            <a:endParaRPr b="1" lang="en-US" sz="20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02" dur="2000"/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12" dur="2000"/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7" dur="500"/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2" dur="500"/>
                                        <p:tgtEl>
                                          <p:spTgt spid="2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3T13:22:20Z</dcterms:created>
  <dc:creator>Prine, Stephanie</dc:creator>
  <dc:description/>
  <dc:language>en-US</dc:language>
  <cp:lastModifiedBy>Prine, Stephanie</cp:lastModifiedBy>
  <dcterms:modified xsi:type="dcterms:W3CDTF">2013-01-23T15:15:33Z</dcterms:modified>
  <cp:revision>7</cp:revision>
  <dc:subject/>
  <dc:title>Demonstrative adjectives</dc:title>
</cp:coreProperties>
</file>